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79FB-5101-4938-BA72-F8E38AEC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7545-549A-46D4-87E7-DB69A780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C788D-F4E3-4C6B-AFB8-78B3BAAC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4C67F-8CDC-4D69-B49E-5653D987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4E529-B736-46E5-8E07-4EBEE44B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DF7F2-FF5C-49D9-BF70-20009691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507AF-3820-48D3-AF32-8A3C16D7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07DAE-922B-4CB9-A8DC-2574B7D5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6AB4C-F021-4A93-971D-B3995C9A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82B37-613D-4EAE-92D0-C72EFC15B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3B187-BFA7-47B8-AA8C-C9B9117D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E84A-E769-4EDE-BD63-43F0F5F6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086B-B0A9-4E19-9FED-937A7CCC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17C5-4C13-46D6-8811-DCA77A28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10C6-B7AB-47D7-B7D4-85937B49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C997-205E-4288-813F-DE2A88C9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95012-9EBB-49D5-9299-BDB9B0BD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2497-BCC2-488F-8396-82012F6D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B59C-75FA-4D48-AA1B-C71D62DE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3EE9-41F9-4635-A6EB-F5ECCDA1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562E-6306-4498-91E4-1E0D9794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AEF0-59D3-4CFD-9EBD-C144A44E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31F8-BDD6-482E-AD29-36FA641E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8476-775B-491A-8084-4308CD65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2B34-28C6-4F5F-A78D-82F24138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2DD3-2F9D-4360-95D5-7CDC364C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B4EEF-BADC-44FD-86BA-1FE4712C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96CAC-71B0-4510-B7BE-393A3CD8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E936F-B85B-413A-97FD-0C60BD25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2BC46-6099-4029-9A09-0F83B827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FFE55-19E3-434A-9D47-DBDABFE9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6773-0F10-4523-A879-79FB6FF1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B9F1A-772A-4B8D-BC36-456EEE4E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81403-BD7C-44E9-B782-59E3245B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B2197-C704-43C1-A7A8-0104C8FF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05F60-E3CA-4114-AF1A-A36AA93F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016FF-3525-48E3-AB03-1923A3DB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002E1-51C7-44C4-B810-393285F4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94467-12F0-4447-B01C-6D40BC45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4E538-79F2-435D-A028-A1B0C0AC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28AD7-013A-43B1-B7E7-11393900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698AB-338F-47CF-883F-6BBE53F8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0C34-FBF2-4C32-AE9A-DB195869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4AEFD-92C1-43BF-BCE8-21F7360F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D1C3E-E498-48EF-A862-DE4CC563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30623-55F6-4086-8B42-83C1CCC0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819E0-34AD-423E-8560-A675E22C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D76B0-D493-4C2A-BD57-7E747368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92B75-7FF3-4433-A96C-249652D5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35D8E-44FA-4F6C-BD2D-0FD10CFC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6AA60-A0DD-4322-85A8-A25884296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A32D0-DEBF-44FC-A47F-2DB7F8E09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3E966-60BA-4FF8-A359-28F7D399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185C-3792-420E-83FC-D7FACBFE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F5A28-90F6-4E40-AB4F-BB4A1610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58690-98F9-4752-B8F4-1CDF42DC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E51AD-F655-4748-938D-44704781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9F699-5DA3-4689-8F98-31AE7F8B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6D2BD-C236-45A9-B8AD-FB303EC6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D436F-C182-481C-88E8-A0B8E377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8BE34-9E5F-429D-90A0-AA56D391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68585-E498-4A05-90A4-B344580B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ABFAE-0574-45DC-9024-7DC0D810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96E93-572B-4056-BCA7-07506803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AACA-5F05-4D74-9A4B-CBBB8144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225B5-021A-4E17-AB8F-F8DF7301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DEA74-3624-4E6A-92FF-B6B46287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E70F8-4FD2-409E-BDE5-2A94033A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B3BA3-BF65-4AFD-8E56-D7252189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A1CBE-3E0B-4830-9E8C-7B32E08B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E5DB2-1A8E-41E1-A7C7-F8905185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BE28C-CB4C-4D95-A055-024EECD9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7853F-4DE2-476F-9CB0-50111550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F53EF-8998-4887-88DD-687D2758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2F45F-78C0-4B39-8B5F-28636FA5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BE60-7209-4755-B7AA-92D4AB51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B616D-1B05-4202-805F-C70915C0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67F5C-587A-4D8D-A459-24D283AF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5082B-45FD-411B-9B66-517F6E107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FB523-0345-41DF-8E0F-23AE8FC7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7C37C-F4BB-4C53-AB12-686247D6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1A9B1-83C7-4A16-9067-FA0010E0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F9159-8264-4733-9896-C3990D62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458D5-DA8F-4BE8-A32C-B850A20F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57E64-036F-40B5-BC0C-BBC2A13A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6084A-3C97-47D6-ADD8-C034C9EF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88EA-A63B-4FD8-9B21-BB9ABD85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250F0-B640-45A4-865C-DC47A0F4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32ABE-0AF5-4002-B8E9-FECD1525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F4A7A-9C1C-4268-BBD1-FC0C83D9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7E891-06F5-4AC6-B66E-451333C8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7E03D-6E76-44B6-9D2D-CF406236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A909A-E77B-45D1-8449-B0263D56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B87CA-F16E-49F2-B77B-D29A2F6C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432B7-3424-4803-9212-660ECF8A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558E9-21B1-405E-88DA-4F9012FC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37FEC-F897-43FE-A32F-6B5BCB10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D04B-3B8F-4F26-BF0C-343B1199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68D70-34B1-44AF-9BD7-B9087F39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DF973-1B99-488E-BD52-01784283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DA295-F34E-45DA-9562-E6A61438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2DA40-A423-4DDA-AD89-172E8571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198FE-8B35-4E1C-A8BB-3FD87DFB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655C2-1D70-41A8-A905-8A98B6F9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D3DFA-B73C-4FA0-ABBC-6961FA5E5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9CCBD-5FE1-4588-B112-CDD6B7FA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AB5BB-1385-42A7-B2EB-9590A3F1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A92C7-6BF8-4838-B88D-280D700C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FDAF-139A-4D63-A356-AA7D16DF0F89}" type="slidenum">
              <a:rPr b="0" lang="es-EC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6 Conector recto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73A3-1E52-465F-9BAD-88CB71823A79}" type="slidenum">
              <a:rPr b="0" lang="es-EC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9ED9-C620-48D2-8BAD-CA4923B8E81D}" type="slidenum">
              <a:rPr b="0" lang="es-EC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6 Conector recto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CCD6-B595-4072-84F8-BE33C3651C0C}" type="slidenum">
              <a:rPr b="0" lang="es-EC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10 Conector recto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10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2441-2753-4F96-B1C0-D0C0E63EC5B8}" type="slidenum">
              <a:rPr b="0" lang="es-EC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4C49-0230-4287-B800-CC860C79B11F}" type="slidenum">
              <a:rPr b="0" lang="es-EC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7 Conector recto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7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B09E-6A18-44E5-ABBE-323FF57EB255}" type="slidenum">
              <a:rPr b="0" lang="es-EC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C04A-7B8B-44B2-9C18-830FFE506557}" type="slidenum">
              <a:rPr b="0" lang="es-EC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C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1AD9-8AC7-4CB5-B188-0B078DA6472A}" type="slidenum">
              <a:rPr b="0" lang="es-EC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hyperlink" Target="mailto:camara.canadiense@ecucanchamber.org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8" descr=""/>
          <p:cNvPicPr/>
          <p:nvPr/>
        </p:nvPicPr>
        <p:blipFill>
          <a:blip r:embed="rId1"/>
          <a:stretch/>
        </p:blipFill>
        <p:spPr>
          <a:xfrm>
            <a:off x="2411280" y="981000"/>
            <a:ext cx="4392720" cy="287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8" descr=""/>
          <p:cNvPicPr/>
          <p:nvPr/>
        </p:nvPicPr>
        <p:blipFill>
          <a:blip r:embed="rId2"/>
          <a:stretch/>
        </p:blipFill>
        <p:spPr>
          <a:xfrm>
            <a:off x="2411280" y="1197000"/>
            <a:ext cx="4321440" cy="4248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8" descr=""/>
          <p:cNvPicPr/>
          <p:nvPr/>
        </p:nvPicPr>
        <p:blipFill>
          <a:blip r:embed="rId3"/>
          <a:stretch/>
        </p:blipFill>
        <p:spPr>
          <a:xfrm>
            <a:off x="6732720" y="0"/>
            <a:ext cx="2411280" cy="53737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8" descr=""/>
          <p:cNvPicPr/>
          <p:nvPr/>
        </p:nvPicPr>
        <p:blipFill>
          <a:blip r:embed="rId4"/>
          <a:stretch/>
        </p:blipFill>
        <p:spPr>
          <a:xfrm>
            <a:off x="0" y="0"/>
            <a:ext cx="2411280" cy="5373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6" descr=""/>
          <p:cNvPicPr/>
          <p:nvPr/>
        </p:nvPicPr>
        <p:blipFill>
          <a:blip r:embed="rId5"/>
          <a:stretch/>
        </p:blipFill>
        <p:spPr>
          <a:xfrm>
            <a:off x="395280" y="549360"/>
            <a:ext cx="1512720" cy="2087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>
                <a:alpha val="49000"/>
              </a:srgbClr>
            </a:outerShdw>
          </a:effectLst>
        </p:spPr>
      </p:pic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394920" y="5373720"/>
            <a:ext cx="8496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150000"/>
              </a:lnSpc>
              <a:spcBef>
                <a:spcPts val="4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595959"/>
                </a:solidFill>
                <a:latin typeface="Kristen ITC"/>
              </a:rPr>
              <a:t>Lleva a toda la familia para disfrutar ese día!!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50000"/>
              </a:lnSpc>
              <a:spcBef>
                <a:spcPts val="326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Comic Sans MS"/>
              </a:rPr>
              <a:t>Para reservaciones,  información  para auspicios y detalles del evento, favor llamar a la Cámara 246 8598, 244 5972 o e-mail: </a:t>
            </a:r>
            <a:r>
              <a:rPr b="0" lang="es-ES" sz="1300" spc="-1" strike="noStrike" u="sng">
                <a:solidFill>
                  <a:srgbClr val="ad1f1f"/>
                </a:solidFill>
                <a:uFillTx/>
                <a:latin typeface="Comic Sans MS"/>
                <a:hlinkClick r:id="rId6"/>
              </a:rPr>
              <a:t>camara.canadiense@ecucanchamber.org</a:t>
            </a: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7"/>
          <a:stretch/>
        </p:blipFill>
        <p:spPr>
          <a:xfrm>
            <a:off x="2411280" y="189000"/>
            <a:ext cx="4321440" cy="792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"/>
          <p:cNvPicPr/>
          <p:nvPr/>
        </p:nvPicPr>
        <p:blipFill>
          <a:blip r:embed="rId8"/>
          <a:stretch/>
        </p:blipFill>
        <p:spPr>
          <a:xfrm>
            <a:off x="324000" y="2637000"/>
            <a:ext cx="1584000" cy="4968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4" descr=""/>
          <p:cNvPicPr/>
          <p:nvPr/>
        </p:nvPicPr>
        <p:blipFill>
          <a:blip r:embed="rId9"/>
          <a:stretch/>
        </p:blipFill>
        <p:spPr>
          <a:xfrm>
            <a:off x="7380360" y="260280"/>
            <a:ext cx="1511280" cy="468360"/>
          </a:xfrm>
          <a:prstGeom prst="rect">
            <a:avLst/>
          </a:prstGeom>
          <a:ln w="0">
            <a:noFill/>
          </a:ln>
        </p:spPr>
      </p:pic>
      <p:sp>
        <p:nvSpPr>
          <p:cNvPr id="408" name="115 Rectángulo"/>
          <p:cNvSpPr/>
          <p:nvPr/>
        </p:nvSpPr>
        <p:spPr>
          <a:xfrm>
            <a:off x="1763640" y="1197000"/>
            <a:ext cx="6985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1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La Cámara de Comercio Ecuatoriano Canadiense invita a sus socios y amigos a participar en nuestro IX Stampede Break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mic Sans MS"/>
              </a:rPr>
              <a:t>Ven a disfrutar de una deliciosa tradición canadiense y un divertido día famili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mic Sans MS"/>
              </a:rPr>
              <a:t>Varias Atracciones y Actividad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1200" spc="-1" strike="noStrike">
                <a:solidFill>
                  <a:srgbClr val="000000"/>
                </a:solidFill>
                <a:latin typeface="Comic Sans MS"/>
              </a:rPr>
              <a:t>Juegos infantiles y prem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116 Rectángulo"/>
          <p:cNvSpPr/>
          <p:nvPr/>
        </p:nvSpPr>
        <p:spPr>
          <a:xfrm>
            <a:off x="324000" y="3357720"/>
            <a:ext cx="792144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mic Sans MS"/>
              </a:rPr>
              <a:t>Dónde: </a:t>
            </a: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Colegio Marie Clarac, Calle Juan Montalvo 255 y Calle de los Ángeles, Tumbaco (Vía Interoceánica, Pasar el Ventura Mall hasta el Supermercado Santa María, virar a la derecha en la Calle Juan Montalvo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mic Sans MS"/>
              </a:rPr>
              <a:t>Cuándo: </a:t>
            </a: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Sábado, 30 de junio 2012, a las 10: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mic Sans MS"/>
              </a:rPr>
              <a:t>Cuánto: </a:t>
            </a: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USD 15,00 adultos, USD 7,50 niñ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70000"/>
              </a:lnSpc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Comic Sans MS"/>
              </a:rPr>
              <a:t>Vestimenta: </a:t>
            </a:r>
            <a:r>
              <a:rPr b="0" lang="es-ES" sz="1200" spc="-1" strike="noStrike">
                <a:solidFill>
                  <a:srgbClr val="000000"/>
                </a:solidFill>
                <a:latin typeface="Comic Sans MS"/>
              </a:rPr>
              <a:t>Vaqu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122 Rectángulo"/>
          <p:cNvSpPr/>
          <p:nvPr/>
        </p:nvSpPr>
        <p:spPr>
          <a:xfrm>
            <a:off x="2743920" y="1052640"/>
            <a:ext cx="36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Comic Sans MS"/>
              </a:rPr>
              <a:t>Celebración del Día de Canad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123 Rectángulo" descr=""/>
          <p:cNvPicPr/>
          <p:nvPr/>
        </p:nvPicPr>
        <p:blipFill>
          <a:blip r:embed="rId10"/>
          <a:stretch/>
        </p:blipFill>
        <p:spPr>
          <a:xfrm>
            <a:off x="378000" y="152280"/>
            <a:ext cx="1542960" cy="4510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8" descr=""/>
          <p:cNvPicPr/>
          <p:nvPr/>
        </p:nvPicPr>
        <p:blipFill>
          <a:blip r:embed="rId11"/>
          <a:stretch/>
        </p:blipFill>
        <p:spPr>
          <a:xfrm>
            <a:off x="2340000" y="0"/>
            <a:ext cx="4392720" cy="1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7:58:38Z</dcterms:created>
  <dc:creator>PASANTES</dc:creator>
  <dc:description/>
  <dc:language>en-US</dc:language>
  <cp:lastModifiedBy>PASANTES</cp:lastModifiedBy>
  <dcterms:modified xsi:type="dcterms:W3CDTF">2012-06-11T15:10:11Z</dcterms:modified>
  <cp:revision>89</cp:revision>
  <dc:subject/>
  <dc:title>Diapositiva 1</dc:title>
</cp:coreProperties>
</file>